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C96F-B1D8-4B5B-A8BE-A1E29B9E1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4526-6968-4545-B96E-CCE2D5912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460-B027-43A3-A6A6-4BED0957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6C1-1926-4A4F-9C9B-AB3840F5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6D4-AD35-4E2B-A30A-6009FC0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7B9-4BF1-4B72-9023-198483DF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079-81CC-44EC-8C4F-C994BE3A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57C6-A651-42CD-895D-CA26C003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54F-671F-43F2-9AB6-F2234B1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34E4-FB5B-4DA1-B4B3-1E9E870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8C48-D3F1-4ADB-9A46-E7B436B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3A2D-69F8-4B15-8D51-CACA8B8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E56B-1C8F-4E64-AFBB-0C6FE0F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C9F-D0E4-4CAE-A98C-9FBB992D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AC0C-0D63-46C9-8096-182F2BF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B71F-DA44-4E8B-B250-D05356B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B755-1DF7-406C-B226-7EE3984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9E50-7AED-4666-8616-1D5C986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A79C-8C99-441E-A8C5-0472A77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1893-16CC-4D33-807E-8500B36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1AC4-9AAA-4E6D-963F-06AFFF4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17E5-8AD3-4EC8-9287-55E5EEA4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FDC9-52FE-4A3F-B5AE-82CEF996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D549-680F-477B-B6BE-37D69DF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E2B-87B7-4CD9-ACF6-5684231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AFDF-7E35-4F0D-8C28-A765278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62EC-44C6-436F-B66A-8008D1C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C7A5-2A8B-4561-A52F-72F3108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E3FB-ED72-4C53-8D49-7C1BBA9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105C-B6B8-4E50-A4AB-C6147DE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B74B-BBC1-4823-97EB-EDBF6B0B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BB24-3E0A-4F34-91C6-A29AF9C0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CC94-BF6C-4A61-85CC-669F5DB8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22D2-2CC6-4237-9B62-828A37E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B71F-8E96-44A7-813E-2DF8F5A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F91-51DB-4588-A011-42857C97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6682-0B49-44AC-84D0-2D04D71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890D-0D86-4DE2-BD4B-C11DA64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2CBB-1B96-4B42-8F8C-7F1D527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3A93-009A-4AFE-98C2-B126BBD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9961-78A0-46B0-853A-7CA3028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CBF12-1334-4EFB-92A4-D146434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47E3-414F-4C29-AB54-F7C4330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483C-B121-4C27-9CE7-001E37BF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3F47-0290-425B-8DA6-442A03F8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6504D-2E95-4FCA-95CE-1C7881FF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0CD-2AF4-479F-8CEC-DAE47B15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B85E-F0D5-4925-8F71-74430A37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7CA2-293F-460C-8B52-299DDAF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17099-375A-4236-AD12-4B0F0BD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9824-7EC3-49B3-87DD-645E73B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C664-9ECD-4728-A709-7873135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111F-901B-4628-A17F-30674D7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0A0F-9F02-46FF-AE96-863DC9D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6A33-B08A-4469-A22A-3C7512E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B3772-8524-417F-BAEF-0C877CC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E76C-D96E-4001-823F-66F3DF20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CA1-F9FD-4E8E-90F6-D5028A7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37523-D616-4764-B20D-FB34890E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ADD-0C1B-4E43-A637-A7F7B2AD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0AC-58FB-4233-9580-C792EB8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0DC-388A-4966-9064-5EE3081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2E83-11FB-4BBB-BC3F-EE691BEAF2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F8C-9374-459F-B94A-6E68BACC3A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D41-AD45-48AD-83D2-4FA4136E63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6A2-6A86-4F7B-BBE2-C148718326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D654-2BB1-4727-BCC0-6111560F928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12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uman Sk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ersonal relationships dealing with selecting, motivating, and leading other employe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counting manager supervising group of audit accounta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anufacturing manager resolving conflict between and inventory supervisor and a loading superviso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ual Sk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bility to see the total organizational picture by integrating and coordinating a large number of activ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nalysis by the executive vice president of the potential effects of a merger with another fir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ining the total impact of a proposed labor contract in the firm by the personnel vice presid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gnostic Sk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bility to quickly get at the true cause of a certain situation through a maze of data, observations and fac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ing the causes of employee turnov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ticipating changes in consumer buying habits by .a marketing manag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FFC-8399-4E39-959C-1E23F9F1EF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752480" y="1295280"/>
            <a:ext cx="59436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752480" y="4191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175248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1752480" y="1294920"/>
            <a:ext cx="304812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Line 8"/>
          <p:cNvSpPr/>
          <p:nvPr/>
        </p:nvSpPr>
        <p:spPr>
          <a:xfrm flipV="1">
            <a:off x="4648320" y="1294920"/>
            <a:ext cx="304776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2286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p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5228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ddl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52280" y="45720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pervisory level/entry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752480" y="762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CEPTUAL SKIL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648320" y="1752480"/>
            <a:ext cx="533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7010280" y="2286000"/>
            <a:ext cx="838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agement as a profession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rofession is an occupation for which specialized knowledge, skills &amp; training are required &amp; the use of these skills is not meant for self-satisfaction but these are used for larger interests of the society &amp; the success of the use of these skills is measured not in terms of money alone.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acteristics of profession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ll defined body of knowledg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al education and trai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nimum qual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resentative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rvice mo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thical code of condu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fessionalization of Manage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roves knowledge in a systematic w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roves professional status and presti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managerial ethic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tal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qualifications difficult to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rs are known by perform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rs are responsible to many grou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etent education and training facilities do not ex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oals of Manag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9880" y="1447920"/>
            <a:ext cx="4724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urplu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stablish an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accomplish group goals with available resour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output-input rat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achievement of the ends with least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ffectiveness-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hievement of objec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0" y="1905120"/>
            <a:ext cx="3809880" cy="37922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841-598F-4B1D-9028-BCD045A6BA7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57200" y="30492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the Leap From Individual Performer t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442920" y="44197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xhibit 1.4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7" descr="37700_e0104"/>
          <p:cNvPicPr/>
          <p:nvPr/>
        </p:nvPicPr>
        <p:blipFill>
          <a:blip r:embed="rId1"/>
          <a:stretch/>
        </p:blipFill>
        <p:spPr>
          <a:xfrm>
            <a:off x="1295280" y="2362320"/>
            <a:ext cx="769644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nry Mintzberg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has categorized these roles into three group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ersonal ro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al ro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sional ro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ption of each of the roles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552F-2F10-47EB-923A-3399E44599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les : Interperso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gurehea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epresenting the organization in formal matters; serving as a symbol of the organization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ais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Interacting with peers and people outside the organizations; developing external links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ad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Activities concerned with subordinates, motivating, staffing, communicating and direc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les : Informatio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nit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eceiving and collecting information; utilizing the channels through which the information co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seminat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ransmitting information within the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okesm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ransmitting information to people outside the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les : Decisio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ntrepreneu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Introducing change; initiating projects to improve the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turbance Handl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aking charge when the organization is threaten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source Allocat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Deciding where the organizations will expend its efforts and what resources will be expend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egotiato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olving the organization with other organiz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agerial ski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echnical sk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Knowledge &amp; proficiency in activities involving methods, processes and proced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 Ski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: Ability to work with people, cooperative effort, teamwork, participative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ceptual ski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: Ability to see the “Big Pictur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agnostic sk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: Ability to determine, by analysis, the nature and circumstances of a particular condi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cal Sk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se of tools, techniques, and procedures in a specialized m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hologist analyzing a blood samp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engineer designing a brid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Bright</cp:lastModifiedBy>
  <dcterms:modified xsi:type="dcterms:W3CDTF">2013-08-23T06:22:58Z</dcterms:modified>
  <cp:revision>30</cp:revision>
  <dc:subject/>
  <dc:title>Managerial Roles and Skills</dc:title>
</cp:coreProperties>
</file>